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8F3-4D96-4A7E-83F8-6C5F7D3D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520C-7018-48E5-B699-A1409BF7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8BD5A-D27F-4D78-98C7-FF740430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E20CE-4FD1-4405-9718-EEAFF706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D673C-3C35-4F12-AA69-5F23F58B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44B02-49F7-4B70-8EA9-44D54A7E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2B98D-4169-41DA-8E3B-91260FF5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DDBB5-EB5D-40F0-B884-F4A6BA14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A4442-E23E-4D04-9270-A0E397E2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D4A97-A574-4287-8322-6772D823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4FFC8-FDC5-49DF-9554-87306AC6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D85BF-9FAF-4FBC-97A4-251CB0AD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77A-DCF1-488F-8FF8-C580074F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BFA02-1373-48E6-AE74-AE44C7E6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3596D-F3B4-44BC-A0CE-99D6EEC5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DAC23-0B9C-4D26-B079-77EB4D6F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7FFE1-863A-4C34-8719-84315D9E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0099A-DAF0-4608-ADC2-E684AAB0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917F0-D5C7-4DA2-9A52-67CB49E8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D52DF-D96B-48AA-B2A1-05F84447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9FFAB-B56F-4094-9D21-4F795C42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77D2E-5E34-4EDB-BC9A-E760EF0C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2569E-6F29-4083-A06F-51691E31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CC6-F15D-456F-B225-76D86EA9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86F48-117B-4955-9B92-8BCDFD66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01A78-08A8-429C-90CE-621CADF0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20C51-45E7-481B-9808-32130679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A128C-C0F0-4A87-86B7-329F3413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EA6BC-768C-4FCF-BB1B-74B9B7B4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A4984-BEC5-4CC1-A4C3-653A63F9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BDB97-7C5B-40CA-A86B-C76614CF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7CF51-889C-439B-A1AA-B3180523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F28D3-EB42-4CC8-B38C-44FA2479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96DA9-EF5B-4B1E-90D8-4343CA88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3BB3-2E00-4361-820B-DD33516A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EE092-FA27-408B-AC8E-43A084C9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AD5C7-0943-4F31-9B80-56B21CC7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3563F-65EA-4768-AEE2-FCE340AA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1664E-70E6-40EE-AD0A-BA0DE294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F8693-FEA8-42CA-8CD3-7C7EFAC8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C959D-A6BE-4F43-B71B-28112C14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91B4E-A9B4-4FD9-B9B5-D281624A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2395E-CD71-4575-807B-A4741A7E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E5F2F-766E-4D50-A769-AA5532EF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15BD2-3147-42C9-B188-4CF24C5B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7B42-6C98-4A7F-A01E-0DFA0C03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385EA-0FED-44D8-BE8C-1B177748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18A85-BAB8-485B-8053-76A89A3F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40432-8443-4628-A6A5-21B4FF7A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D7D9A-7B0C-425E-9C0A-59248C44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DEE01-D3A7-4596-B8BE-0DADDE05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110735-DB9A-40E3-A291-99DB66BD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641B77-1D42-43AF-BDEB-51A6A062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A82A51-CA1B-4B86-ABA5-C5FB94C2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9BB08-26F1-4A61-A460-7B4E4E3C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4CEE9-6C03-4D34-A718-FCB89DF9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B67D-A94A-4FBA-BE56-797275EB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8DC09-7B05-4096-90AC-526D70B1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CFE597-426F-4A8E-922A-77DD0CC2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2D824-4C15-42CB-8008-E40F466B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D6AB9-317B-4EAA-A0CE-B594D306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589C68-FDED-4E93-AC92-87F9C738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777DFA-7A71-4C50-ACBC-E1698C0A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C6AE3-0BA9-4301-8415-42EFC079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3441F9-3FE9-49B0-9B2D-C33DEA82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AE5365-80E0-4818-9FA2-826E0608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413ED5-3E63-4AA3-B31B-F91CAB9F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0B36-ACF5-4C13-BCB2-6FFC0DA9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E6C5D4-80C2-48C7-B79C-263B99E3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D3BC53-59F7-443D-9107-58AE40FE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67B15-5374-45FB-8AFB-96FEE3CE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BA7594-64CB-45E9-ACF2-DBF6C612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BD62CF-5C27-4E1C-84DB-C64B580A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86D7E6-66F1-4FC0-A5D8-C33D3A33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EE83C6-DEDA-481F-9F6A-225B91BD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7119E0-6565-4B5C-872B-E13C14A2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A07403-0470-4E04-A2CD-A3D5E981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08D673-B08C-4146-94A9-F9FF7E12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8230-2C58-44D0-A0B4-C612B90B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EB91D1-CB9C-4F4A-B903-A6B82560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9D74EC-CA04-4A68-90EC-4B2B663A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16FA24-5F71-42DF-939A-C0855227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58CD15-6D85-402D-BBA2-4D0D8ECB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28C30E-4BEC-4697-B516-57B021CD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75F43-5B24-4B18-B900-9E4C330D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BF6F41-F4B6-4072-A908-9FC2D106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8A4683-2190-4163-9026-E8FC341C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741AF0-942D-4EAA-88EC-7E7043C0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96C7DF-402A-4488-AC10-C12FC346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57F5-1F9D-4192-AB66-35A0D6E8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30C15F-C5E4-4068-B70F-72CBA6AE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1AC8AC-09F1-4725-B7A6-1474AB57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EF5902-C390-4402-9570-059C448C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0984A1-1EDE-4FD4-BBDD-F5A39AEC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6A8E8D-67D2-438A-944D-893F868F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826B1A-E226-4508-96CB-E64C6FDB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4EE868-CF4A-4872-829D-A0EF9E61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8F7F46-446F-453F-89E2-535A9D79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A8CBA4-56D1-49E2-93D2-64CB653F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E990CF-AB49-44B3-B558-3B46C0F5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3B77-B9B4-460C-B177-5900A6BA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AF6DDC-2185-4FB3-94D5-EA6FC8F3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05C8B7-B89E-4776-B385-D1E4A9DB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807A91-37E4-47EF-BA2B-A323EB40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5E671C-E8E0-483E-8F95-F899E85B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5A9894-D4EC-4437-8B6C-E4B5EF92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1BC4E9-C28C-406F-ACD6-AC6819B5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6BD032-B71B-4C9E-9698-BFCD7214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6BB31C-F257-47E2-AC8C-A874E312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A088A5-DA7D-4919-9C55-2BC21ADD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A14CEA-5DC0-484A-8B8B-641EBBA2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12A-2235-4790-9309-E2A99551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D5F0-BDBD-41CE-82BC-595E3BEB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A8F22A-EA1E-4028-A437-CD339B69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865D5A-4F84-453E-B25B-1B029BC1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1CDB92-6F05-4478-90B3-3930E0A9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BCDF5A-6B3F-4A66-9EDE-E28DA825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019927-E877-41E8-BDF4-9679AE60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F23E-329F-47D4-B48B-A15F488A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1A5F-ED10-4C26-B8B8-AC35369D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E981-2C48-422A-AEF5-FC4051D1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F62A-7DA7-4987-8257-53CFC9BD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DF978-DE27-48D6-B51E-D9C61DE8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3ACC9-6AF7-4C6B-B33F-018ACF1B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A7740-2645-41A0-82F2-F62E0EA3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9E1EC-4868-4C81-8C37-8F3D3751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EF3D9-6943-4C84-825F-E1E886A7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A79C-18EE-4DAA-86F5-9A6EB845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2E492-CFDE-4DD2-860D-8ED4C1CD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4ABE9-8B9E-4D12-9E18-ADDB271E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10B2E-D2EA-4D3B-BE10-9DBF75AE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3928A-16DF-4793-97CE-51BDE5E3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E60CC-E7B9-4793-967E-AA5C3506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F0DD7-C7A5-4BC4-A1E3-371339AB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54FB0-D84B-42ED-B71F-BA66BFEC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D0390-8138-490D-ADF8-B6475173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E0D65-B1B7-42C3-855D-3BB9ABD3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E5944-18AB-4090-AAE3-6EFC0A3F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C12-6CCC-4D38-831B-E332A45B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19107-06BB-4308-BDAB-CAACFFD2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19840-6505-4C3E-8405-1CE9952F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A571E-AE8B-4AF3-A96B-3ABEADFE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96FFF-1A10-4B1C-9E72-0D7D0143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4EBC2-4052-415C-8FBA-63255ADF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80F6C-57CB-48F3-A2B9-7CC6107C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20CFD-6961-4B5B-9BAA-B14CA09D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CAA56-7EDA-43A8-B8CB-1F15471A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79D5A-D844-4169-9FA8-AFFBB496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DD1C1-9E9E-4652-8213-DEF7D21F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2A5-F0D5-462F-B9AC-31FEA8DC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B170F-7DEE-48F3-A82B-E4641890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A0B9B-5C3F-4135-AB54-AB083BEC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7A1AA-9B48-4A28-BD68-56BEEE83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9518F-5E5F-42CF-8638-F57C5BBD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DE1EA-961C-4ED0-B48C-3C856EEB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621CC-1031-4090-BB01-F072BC7C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5A0FD-913E-4085-8874-7A9949FF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67D62-BD02-46EC-A0EB-C1084552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81D20-ED2A-4ECE-8217-64EF474F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F1FB3-9278-42FD-B5A4-08F34464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8532-D04F-4452-8193-F7CEE529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D1E2F-8F66-4F83-8701-3B22EC52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81923-DF47-4342-A05E-05610B8E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B0975-9236-400E-990C-57646C10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AFA05-5EFC-45EC-8755-757E60F8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8AF98-CFF9-4AF3-B087-CA6C5FCB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BF2DF-EA63-4750-9953-BFA959F1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AC965-F8C7-4FC5-BA1B-D1AC0760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48203-8020-4437-A0C2-73D05280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E3694-9DB7-42F5-B0C2-4658D0FF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FBAF7-B704-4F86-90DA-434692D1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49F-70EC-453B-A9F1-12B10104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FE563-CE6C-456F-96C6-7C116DA9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D940F-92C8-4389-8B74-506741A6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E8CB1-6768-4E95-8C27-F9508134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26B07-F75D-43BC-829C-CA574158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AC484-44AE-483E-A9F3-8077FDC5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ECFC0-E974-4638-ADE1-F7890A4B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A615D-1C90-482D-94C8-6257E7FB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8B4A6-8B46-4134-B4A8-799BB5D6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03FFA-D919-4E47-B7E9-E095E27A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AEFD3-6248-4D12-8EA5-2FD7D964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34E-08E8-4D73-B3AF-39698EB8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AC79E-D4CD-4960-8992-DCB1EECD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B3A7A-0A1C-4B77-ACDD-21D6B70B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68E43-23DB-42F4-A88A-79D04886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79C58-373D-4BA2-A4E9-16AE219E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D2369-300B-429F-A1F3-415F3D9F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CF93D-9FF9-410B-95DD-AE5C7F93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2B464-7D42-4112-BB0E-5F5BDE6F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85493-89F7-4894-B7AA-3074D4C1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C90BD-0AC1-4963-9794-36C0AD19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7243F-D608-45EC-96A2-35F80C45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AB2B-23C4-4F37-B048-78495BA3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C7442-695C-4A2F-8D94-94377888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A714B-F110-40F3-B510-AF924FF7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DE58B-80A7-414D-BB69-D99A3E33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88AE5-B861-483E-BE18-3B73096E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8D01D-B787-454D-9E41-1672389A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64792-E598-4BC8-9434-DFDCC010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C186A-92AC-46A2-9ED4-595144BC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52878-BED5-48F2-8D39-41615E84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13AB2-EBF1-488A-B0C2-034E05CF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ADCC5-A210-4BCA-B06A-A0E2EC28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C13C-9E94-42B8-A352-754BA979F577}" type="slidenum">
              <a:rPr b="0" lang="zh-CN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A009-907B-4794-9213-533F0677F5AA}" type="slidenum">
              <a:rPr b="0" lang="zh-CN" sz="2000" spc="-1" strike="noStrike">
                <a:solidFill>
                  <a:srgbClr val="feffff"/>
                </a:solidFill>
                <a:latin typeface="Calibri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23DB-DEE6-40A2-BC74-8305F9409501}" type="slidenum">
              <a:rPr b="0" lang="zh-CN" sz="2000" spc="-1" strike="noStrike">
                <a:solidFill>
                  <a:srgbClr val="feffff"/>
                </a:solidFill>
                <a:latin typeface="Calibri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128D-0C3D-4FD6-8544-5D43E0203C27}" type="slidenum">
              <a:rPr b="0" lang="zh-CN" sz="2000" spc="-1" strike="noStrike">
                <a:solidFill>
                  <a:srgbClr val="feffff"/>
                </a:solidFill>
                <a:latin typeface="Calibri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D3F2-EB61-46E0-B542-1F14B91B9B4A}" type="slidenum">
              <a:rPr b="0" lang="zh-CN" sz="2000" spc="-1" strike="noStrike">
                <a:solidFill>
                  <a:srgbClr val="feffff"/>
                </a:solidFill>
                <a:latin typeface="Calibri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FFD0-134D-4E7C-B6BC-C66167882689}" type="slidenum">
              <a:rPr b="0" lang="zh-CN" sz="2000" spc="-1" strike="noStrike">
                <a:solidFill>
                  <a:srgbClr val="feffff"/>
                </a:solidFill>
                <a:latin typeface="Calibri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C8FA-5EF8-4460-9B5D-9D1290582A91}" type="slidenum">
              <a:rPr b="0" lang="zh-CN" sz="2000" spc="-1" strike="noStrike">
                <a:solidFill>
                  <a:srgbClr val="feffff"/>
                </a:solidFill>
                <a:latin typeface="Calibri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2B9C-C648-44BC-8A21-5FB633237386}" type="slidenum">
              <a:rPr b="0" lang="zh-CN" sz="2000" spc="-1" strike="noStrike">
                <a:solidFill>
                  <a:srgbClr val="feffff"/>
                </a:solidFill>
                <a:latin typeface="Calibri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7FC8-6483-4C58-89E8-20CEAB0511A3}" type="slidenum">
              <a:rPr b="0" lang="zh-CN" sz="2000" spc="-1" strike="noStrike">
                <a:solidFill>
                  <a:srgbClr val="feffff"/>
                </a:solidFill>
                <a:latin typeface="Calibri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CF01-16EC-47B0-A891-E6840E6CF81D}" type="slidenum">
              <a:rPr b="0" lang="zh-CN" sz="2000" spc="-1" strike="noStrike">
                <a:solidFill>
                  <a:srgbClr val="feffff"/>
                </a:solidFill>
                <a:latin typeface="Calibri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94F8-9C10-4A7D-A6CD-A59A0E30FB0A}" type="slidenum">
              <a:rPr b="0" lang="zh-CN" sz="2000" spc="-1" strike="noStrike">
                <a:solidFill>
                  <a:srgbClr val="feffff"/>
                </a:solidFill>
                <a:latin typeface="Calibri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6057-FBDE-4062-BA1D-6C93D7FF7EFF}" type="slidenum">
              <a:rPr b="0" lang="zh-CN" sz="2000" spc="-1" strike="noStrike">
                <a:solidFill>
                  <a:srgbClr val="feffff"/>
                </a:solidFill>
                <a:latin typeface="Calibri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6403-A4C7-4A36-AF32-5448675989B6}" type="slidenum">
              <a:rPr b="0" lang="zh-CN" sz="2000" spc="-1" strike="noStrike">
                <a:solidFill>
                  <a:srgbClr val="feffff"/>
                </a:solidFill>
                <a:latin typeface="Calibri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917B-610D-4976-85B7-4AE3EC16B78B}" type="slidenum">
              <a:rPr b="0" lang="zh-CN" sz="2000" spc="-1" strike="noStrike">
                <a:solidFill>
                  <a:srgbClr val="feffff"/>
                </a:solidFill>
                <a:latin typeface="Calibri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C1CF-54BD-4713-ACD0-11C1AB0D41FB}" type="slidenum">
              <a:rPr b="0" lang="zh-CN" sz="2000" spc="-1" strike="noStrike">
                <a:solidFill>
                  <a:srgbClr val="feffff"/>
                </a:solidFill>
                <a:latin typeface="Calibri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60A9-37E9-4697-A611-67BFC184DFB3}" type="slidenum">
              <a:rPr b="0" lang="zh-CN" sz="2000" spc="-1" strike="noStrike">
                <a:solidFill>
                  <a:srgbClr val="feffff"/>
                </a:solidFill>
                <a:latin typeface="Calibri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e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F8DF-A784-463C-AFA6-D576867B0EB0}" type="slidenum">
              <a:rPr b="0" lang="zh-CN" sz="2000" spc="-1" strike="noStrike">
                <a:solidFill>
                  <a:srgbClr val="feffff"/>
                </a:solidFill>
                <a:latin typeface="Calibri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268000" y="1699920"/>
            <a:ext cx="4751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entury Gothic"/>
              </a:rPr>
              <a:t>     </a:t>
            </a:r>
            <a:r>
              <a:rPr b="0" lang="zh-CN" sz="4400" spc="-1" strike="noStrike">
                <a:solidFill>
                  <a:srgbClr val="ff0000"/>
                </a:solidFill>
                <a:latin typeface="Century Gothic"/>
              </a:rPr>
              <a:t>UNIT ONE 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Century Gothic"/>
              </a:rPr>
              <a:t>SPRING IS HERE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Century Gothic"/>
              </a:rPr>
              <a:t>     Lesson 2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68816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What are you going to do this afternoon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We are going to make a model plane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2" name="图片 3" descr=""/>
          <p:cNvPicPr/>
          <p:nvPr/>
        </p:nvPicPr>
        <p:blipFill>
          <a:blip r:embed="rId2"/>
          <a:stretch/>
        </p:blipFill>
        <p:spPr>
          <a:xfrm>
            <a:off x="2700360" y="3114720"/>
            <a:ext cx="4032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6896160" cy="23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What are you going to do this afternoon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We are going to visit our teacher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4" name="图片 2" descr=""/>
          <p:cNvPicPr/>
          <p:nvPr/>
        </p:nvPicPr>
        <p:blipFill>
          <a:blip r:embed="rId2"/>
          <a:stretch/>
        </p:blipFill>
        <p:spPr>
          <a:xfrm>
            <a:off x="1908000" y="2565360"/>
            <a:ext cx="352764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7688520" cy="27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What are you going to do this afternoon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We are going to walk a dog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6" name="图片 3" descr=""/>
          <p:cNvPicPr/>
          <p:nvPr/>
        </p:nvPicPr>
        <p:blipFill>
          <a:blip r:embed="rId2"/>
          <a:stretch/>
        </p:blipFill>
        <p:spPr>
          <a:xfrm>
            <a:off x="2347920" y="2781360"/>
            <a:ext cx="396072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7688520" cy="27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What are you going to do this afternoon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We are going to join a party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8" name="图片 2" descr=""/>
          <p:cNvPicPr/>
          <p:nvPr/>
        </p:nvPicPr>
        <p:blipFill>
          <a:blip r:embed="rId2"/>
          <a:srcRect l="0" t="0" r="0" b="10000"/>
          <a:stretch/>
        </p:blipFill>
        <p:spPr>
          <a:xfrm>
            <a:off x="2168640" y="2997360"/>
            <a:ext cx="431964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332000" y="404280"/>
            <a:ext cx="768816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What are you going to do this afternoon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We are going to see him off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0" name="图片 3" descr=""/>
          <p:cNvPicPr/>
          <p:nvPr/>
        </p:nvPicPr>
        <p:blipFill>
          <a:blip r:embed="rId2"/>
          <a:srcRect l="0" t="0" r="0" b="8160"/>
          <a:stretch/>
        </p:blipFill>
        <p:spPr>
          <a:xfrm>
            <a:off x="1692360" y="2708280"/>
            <a:ext cx="44640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Picture 2" descr="H:\科大讯飞实习\PPT背景素材\图片1.jpg"/>
          <p:cNvPicPr/>
          <p:nvPr/>
        </p:nvPicPr>
        <p:blipFill>
          <a:blip r:embed="rId1"/>
          <a:stretch/>
        </p:blipFill>
        <p:spPr>
          <a:xfrm>
            <a:off x="0" y="-6480"/>
            <a:ext cx="9132840" cy="6850080"/>
          </a:xfrm>
          <a:prstGeom prst="rect">
            <a:avLst/>
          </a:prstGeom>
          <a:ln w="0">
            <a:noFill/>
          </a:ln>
        </p:spPr>
      </p:pic>
      <p:pic>
        <p:nvPicPr>
          <p:cNvPr id="1202" name="矩形 3" descr=""/>
          <p:cNvPicPr/>
          <p:nvPr/>
        </p:nvPicPr>
        <p:blipFill>
          <a:blip r:embed="rId2"/>
          <a:stretch/>
        </p:blipFill>
        <p:spPr>
          <a:xfrm>
            <a:off x="-396720" y="347760"/>
            <a:ext cx="783432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3" name="Picture 2" descr="H:\科大讯飞实习\PPT背景素材\图片1.jpg"/>
          <p:cNvPicPr/>
          <p:nvPr/>
        </p:nvPicPr>
        <p:blipFill>
          <a:blip r:embed="rId1"/>
          <a:stretch/>
        </p:blipFill>
        <p:spPr>
          <a:xfrm>
            <a:off x="0" y="-6480"/>
            <a:ext cx="9132840" cy="6850080"/>
          </a:xfrm>
          <a:prstGeom prst="rect">
            <a:avLst/>
          </a:prstGeom>
          <a:ln w="0">
            <a:noFill/>
          </a:ln>
        </p:spPr>
      </p:pic>
      <p:sp>
        <p:nvSpPr>
          <p:cNvPr id="1204" name="TextBox 3"/>
          <p:cNvSpPr/>
          <p:nvPr/>
        </p:nvSpPr>
        <p:spPr>
          <a:xfrm>
            <a:off x="1099440" y="765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记忆大比拼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4"/>
          <p:cNvSpPr/>
          <p:nvPr/>
        </p:nvSpPr>
        <p:spPr>
          <a:xfrm>
            <a:off x="1250640" y="2046240"/>
            <a:ext cx="286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老师将单词卡片按照随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顺序摆好，学生记忆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之后老师随意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乱顺序，学生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据记忆将单词还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3"/>
          <p:cNvSpPr/>
          <p:nvPr/>
        </p:nvSpPr>
        <p:spPr>
          <a:xfrm>
            <a:off x="3120840" y="2808360"/>
            <a:ext cx="291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TextBox 4"/>
          <p:cNvSpPr/>
          <p:nvPr/>
        </p:nvSpPr>
        <p:spPr>
          <a:xfrm>
            <a:off x="1283400" y="4508640"/>
            <a:ext cx="70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.Remember these new word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Read the dialogue to your parent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Picture 2" descr="H:\科大讯飞实习\PPT背景素材\zxcv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9" name="矩形 3" descr=""/>
          <p:cNvPicPr/>
          <p:nvPr/>
        </p:nvPicPr>
        <p:blipFill>
          <a:blip r:embed="rId2"/>
          <a:stretch/>
        </p:blipFill>
        <p:spPr>
          <a:xfrm>
            <a:off x="1206360" y="2567160"/>
            <a:ext cx="67248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7" name="矩形 3" descr=""/>
          <p:cNvPicPr/>
          <p:nvPr/>
        </p:nvPicPr>
        <p:blipFill>
          <a:blip r:embed="rId1"/>
          <a:stretch/>
        </p:blipFill>
        <p:spPr>
          <a:xfrm>
            <a:off x="878040" y="1779480"/>
            <a:ext cx="73879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entury Gothic"/>
              </a:rPr>
              <a:t>      </a:t>
            </a:r>
            <a:r>
              <a:rPr b="0" lang="zh-CN" sz="3600" spc="-1" strike="noStrike">
                <a:solidFill>
                  <a:srgbClr val="ff0000"/>
                </a:solidFill>
                <a:latin typeface="Century Gothic"/>
              </a:rPr>
              <a:t>plant </a:t>
            </a:r>
            <a:r>
              <a:rPr b="0" lang="zh-CN" sz="3600" spc="-1" strike="noStrike">
                <a:solidFill>
                  <a:srgbClr val="ff0000"/>
                </a:solidFill>
                <a:latin typeface="Century Gothic"/>
              </a:rPr>
              <a:t>栽种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79" name="图片 21506" descr=""/>
          <p:cNvPicPr/>
          <p:nvPr/>
        </p:nvPicPr>
        <p:blipFill>
          <a:blip r:embed="rId2"/>
          <a:srcRect l="0" t="0" r="0" b="12396"/>
          <a:stretch/>
        </p:blipFill>
        <p:spPr>
          <a:xfrm>
            <a:off x="2484360" y="1773360"/>
            <a:ext cx="44640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entury Gothic"/>
              </a:rPr>
              <a:t>fun </a:t>
            </a:r>
            <a:r>
              <a:rPr b="0" lang="zh-CN" sz="3600" spc="-1" strike="noStrike">
                <a:solidFill>
                  <a:srgbClr val="ff0000"/>
                </a:solidFill>
                <a:latin typeface="Century Gothic"/>
              </a:rPr>
              <a:t>有趣的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1" name="矩形 4" descr=""/>
          <p:cNvPicPr/>
          <p:nvPr/>
        </p:nvPicPr>
        <p:blipFill>
          <a:blip r:embed="rId2"/>
          <a:stretch/>
        </p:blipFill>
        <p:spPr>
          <a:xfrm>
            <a:off x="133200" y="1133640"/>
            <a:ext cx="662796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矩形 3" descr=""/>
          <p:cNvPicPr/>
          <p:nvPr/>
        </p:nvPicPr>
        <p:blipFill>
          <a:blip r:embed="rId1"/>
          <a:stretch/>
        </p:blipFill>
        <p:spPr>
          <a:xfrm>
            <a:off x="622440" y="1847880"/>
            <a:ext cx="78991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8961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What are you going to do this afternoon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We are going to plant trees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4" name="图片 3" descr=""/>
          <p:cNvPicPr/>
          <p:nvPr/>
        </p:nvPicPr>
        <p:blipFill>
          <a:blip r:embed="rId2"/>
          <a:stretch/>
        </p:blipFill>
        <p:spPr>
          <a:xfrm>
            <a:off x="2340000" y="2554200"/>
            <a:ext cx="39607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68230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What are you going to do this afternoon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We are going to make a cake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6" name="图片 2" descr=""/>
          <p:cNvPicPr/>
          <p:nvPr/>
        </p:nvPicPr>
        <p:blipFill>
          <a:blip r:embed="rId2"/>
          <a:srcRect l="0" t="0" r="0" b="8092"/>
          <a:stretch/>
        </p:blipFill>
        <p:spPr>
          <a:xfrm>
            <a:off x="2050920" y="2781360"/>
            <a:ext cx="338472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6896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What are you going to do this afternoon?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We are going to see a movie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8" name="图片 3" descr=""/>
          <p:cNvPicPr/>
          <p:nvPr/>
        </p:nvPicPr>
        <p:blipFill>
          <a:blip r:embed="rId2"/>
          <a:stretch/>
        </p:blipFill>
        <p:spPr>
          <a:xfrm>
            <a:off x="2050920" y="2997360"/>
            <a:ext cx="439272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258920" y="476280"/>
            <a:ext cx="718344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What are you going to do this afternoon?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We are going to build a small garden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0" name="图片 2" descr=""/>
          <p:cNvPicPr/>
          <p:nvPr/>
        </p:nvPicPr>
        <p:blipFill>
          <a:blip r:embed="rId2"/>
          <a:srcRect l="0" t="0" r="0" b="20434"/>
          <a:stretch/>
        </p:blipFill>
        <p:spPr>
          <a:xfrm>
            <a:off x="2050920" y="2133720"/>
            <a:ext cx="446580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4T01:02:49Z</dcterms:created>
  <dc:creator/>
  <dc:description/>
  <dc:language>en-US</dc:language>
  <cp:lastModifiedBy>Administrator</cp:lastModifiedBy>
  <dcterms:modified xsi:type="dcterms:W3CDTF">2017-04-19T08:11:50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